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CB9-6434-439B-9BC5-F1F779B3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4F6-5F84-46BE-8D0C-2362ECC7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38C-4930-41D4-9FCA-C3834DB6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E08-2280-4A8C-98CA-8D0225A1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DF01-CD7B-41A3-A961-E1FD3BC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04DC-DA2B-421D-A289-9B8B7FCF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F202-3A83-43DE-BD39-28AE022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D04-AA75-4908-8920-0B3E667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1289-81B0-454C-8335-51258132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43C7-8FB7-4F7E-B3A3-C6255862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357-98A7-46DA-8AAB-27152CB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064-2559-4B8F-9746-C75066B1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427A-7B2F-4DFD-8D90-5D4BB67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D11C-1992-4EFF-9487-FA981FF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B527-7054-484E-B258-72C9611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FD9E-DD7E-4DCF-BED6-E26D98EA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3000-8EEE-4FE4-9F03-794F1D81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839-73E2-4A10-8B88-8FEC82A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DAF-F247-40D1-9180-1D6F288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711-B0CE-4A7A-86E6-F1521B66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2D6-A2C2-4A50-988D-6EF3224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717-119F-415D-B7F4-05FBED1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D63-0A1E-4808-BBE0-72E03C1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60D-8489-415C-BEDD-79D09D3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3B12-814C-4BC3-967C-8C166DE3F6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91FF-ABD6-4A1C-BBD3-FE13FF278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организац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дуплираних послова, документовање стања (систематизација) и елимин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клађивање величине организације и броја запосле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асно дефинисање надлежности и одговорности да би се повећала ефикасн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и јасне описе по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ођење информационог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финансиј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ја непотребних машина, опреме и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најмљивање простора који није у употреби за обављање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жити убрзању пословних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људским ресурс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ионалан избор (селекција) запослених и менаџмен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иденција радног време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ивање флукту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ивање изостанака са пос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ћање продуктивности кроз обуку запосле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њивање радног учинка и награђивање запослених у складу са перформанс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истематски приступ управљања трошковим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ин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џетирање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љање циљева и мерење одступ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ирање извештаја о успешности смањења трош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дентификација кључних а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потребно спровести у рационализацији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дентификација полазних тачака за смањење трошк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према одговарајућих м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ормулисање мера тако да буду применљи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следна примена 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Модел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ACE</a:t>
            </a: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 анали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за рационализацију трош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ан систем фактора и индика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ализован поступ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љиви фактори и индикато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дизовани формулари за прикупљање подат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асна и једноставна упут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вер који подржава анали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нице за тумачење резулт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ки приказ погодан за презентацију и тумач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ложност утицај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 се утицати (краткорочно, средњерочно, дугорочно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 се утицати (барем краткороч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иљ је подела трошкова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требне трошко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избећ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снизи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одлож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Утврђивање 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једностављење послова и проц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зивање са сличним задац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на употреба машина и апар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шћење услуга других фирми које то ефикасније обављај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ација транспортних путева и периода складишт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а бољих метода и технологогија у радном процес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ње коришћења капац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ње радног учинка кроз обуку запосле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Спровођење 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сање свих запослених који су обухваћени мер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авка и инсталација опреме и уређаја и одговарајућег софтв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рема средстава за 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љање временских рокова и одговорних л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упљање и обрада података на рачунару у одговарајућем софт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извршењу услуг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једностављивање услуга да би се брже обављ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јање више услуга да би се добило на време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дизовање услуг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а једноставних и практичних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а савремених помоћних инструме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набав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свих релевантних добављача и израда ба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 организација јавних набав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слене укључити у процес набавке у домену њиховог р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и са добављачима како би се идентфиковали нови производи и услуге који су трошковно ефикасн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ремено наручи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набав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свих релевантних добављача и израда ба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 организација јавних набав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слене укључити у процес набавке у домену њиховог р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и са добављачима како би се идентфиковали нови производи и услуге који су трошковно ефикасн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љање залих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1:57:32Z</dcterms:modified>
  <cp:revision>178</cp:revision>
  <dc:subject/>
  <dc:title>Soft and Hard Skills Development: A Current Situation in Serbian Companies</dc:title>
</cp:coreProperties>
</file>